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440-1DEB-4C6F-8163-81E309BF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9F3-AC88-426B-9CF9-15D7EB06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BCA-166C-4E06-AA2D-903967C4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88D-116A-469B-ABBF-E52A6C04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A21-871C-4CA8-906A-3C1050E3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644-2779-4BB0-A57F-C1B43EC8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B0E-086F-4F20-9C16-622D08F7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24B-76FC-47CD-B722-0EC952DC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F91-6B8E-4A86-B8E9-2AB39C11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829-83FD-4EBA-ABA0-48B9B5E5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EDF-A7C9-480C-AF54-1CAD9AB9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EEB-B95D-4924-9C9F-B4446BB4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5A9A-0A62-4055-ABE0-26A6610D2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hyperlink" Target="http://4.bp.blogspot.com/_5E_qiRhuut4/THlcnHd8vUI/AAAAAAAABPE/5XrvIiX9Q7g/s1600/Liar+Liar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hyperlink" Target="http://xe9.xanga.com/7fbf602359536239288279/b189269737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hyperlink" Target="http://www.pickthebrain.com/blog/wp-content/images/feeling_embarrassed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2" Type="http://schemas.openxmlformats.org/officeDocument/2006/relationships/hyperlink" Target="http://www.google.com/imgres?imgurl=http://www.topnews.in/uploads/pregnant-woman2.jpg&amp;imgrefurl=http://www.topnews.in/study-depression-during-pregnancy-can-retard-growth-child-250061&amp;usg=__G0J3WIV36bouKA5MC8n1bWjStHQ=&amp;h=236&amp;w=260&amp;sz=17&amp;hl=en&amp;start=44&amp;zoom=1&amp;um=1&amp;itbs=1&amp;tbnid=lu7a8loEZUJyWM:&amp;tbnh=102&amp;tbnw=112&amp;prev=/images?q=pregnant+mother&amp;start=40&amp;um=1&amp;hl=en&amp;sa=N&amp;ndsp=20&amp;tbs=isch:1" TargetMode="External"/><Relationship Id="rId3" Type="http://schemas.openxmlformats.org/officeDocument/2006/relationships/hyperlink" Target="http://www.fotosearch.com/bthumb/IMP/IMP205/1525R-143528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521172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“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Black and White”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s are private things and should never be told under any circumstances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True    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w11-secret"/>
          <p:cNvPicPr/>
          <p:nvPr/>
        </p:nvPicPr>
        <p:blipFill>
          <a:blip r:embed="rId1"/>
          <a:stretch/>
        </p:blipFill>
        <p:spPr>
          <a:xfrm>
            <a:off x="155520" y="2590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a person refuses to tell the truth, it is better to keep silent than to tell a lie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>
            <a:hlinkClick r:id="rId2"/>
          </p:cNvPr>
          <p:cNvSpPr/>
          <p:nvPr/>
        </p:nvSpPr>
        <p:spPr>
          <a:xfrm>
            <a:off x="22860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209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are 2 sides to every story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>
            <a:hlinkClick r:id="rId2"/>
          </p:cNvPr>
          <p:cNvSpPr/>
          <p:nvPr/>
        </p:nvSpPr>
        <p:spPr>
          <a:xfrm>
            <a:off x="22860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1878120"/>
            <a:ext cx="51814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okay to let someone else take the blame for something you are responsible for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>
            <a:hlinkClick r:id="rId2"/>
          </p:cNvPr>
          <p:cNvSpPr/>
          <p:nvPr/>
        </p:nvSpPr>
        <p:spPr>
          <a:xfrm>
            <a:off x="22860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2009-08-07-blame_toon_andGrantCardone"/>
          <p:cNvPicPr/>
          <p:nvPr/>
        </p:nvPicPr>
        <p:blipFill>
          <a:blip r:embed="rId3"/>
          <a:stretch/>
        </p:blipFill>
        <p:spPr>
          <a:xfrm>
            <a:off x="457200" y="2286000"/>
            <a:ext cx="36576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embarrassing to be ridiculed by people.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>
            <a:hlinkClick r:id="rId2"/>
          </p:cNvPr>
          <p:cNvSpPr/>
          <p:nvPr/>
        </p:nvSpPr>
        <p:spPr>
          <a:xfrm>
            <a:off x="228600" y="95400"/>
            <a:ext cx="10666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2971800"/>
            <a:ext cx="38098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mily should ALWAYS come before friends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>
            <a:hlinkClick r:id="rId2"/>
          </p:cNvPr>
          <p:cNvSpPr/>
          <p:nvPr/>
        </p:nvSpPr>
        <p:spPr>
          <a:xfrm>
            <a:off x="228600" y="95400"/>
            <a:ext cx="10666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one has good in him or her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     Fa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>
            <a:hlinkClick r:id="rId1"/>
          </p:cNvPr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rId2"/>
          </p:cNvPr>
          <p:cNvSpPr/>
          <p:nvPr/>
        </p:nvSpPr>
        <p:spPr>
          <a:xfrm>
            <a:off x="228600" y="95400"/>
            <a:ext cx="10666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752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556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REVENGE ever JUSTIFIED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    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155520" y="46080"/>
            <a:ext cx="1066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228600" y="95400"/>
            <a:ext cx="10666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00:43Z</dcterms:created>
  <dc:creator>BPS</dc:creator>
  <dc:description/>
  <dc:language>en-US</dc:language>
  <cp:lastModifiedBy>Teacher</cp:lastModifiedBy>
  <dcterms:modified xsi:type="dcterms:W3CDTF">2011-09-27T21:13:55Z</dcterms:modified>
  <cp:revision>16</cp:revision>
  <dc:subject/>
  <dc:title>Scarlet Letter  Anticipation Guide</dc:title>
</cp:coreProperties>
</file>